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9E7-EA26-4B00-8AAC-554CB945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083-1003-44C2-AC48-76A3169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F27-7F20-48C5-8833-629FBCDA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D07-FD9E-46D4-8BCD-40FF07FE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5BD-5653-4096-8BA6-92975B2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101-5FC2-4B81-916A-CC55718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68C-8D6B-4F0E-ADEC-E9C95325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7C3-717E-4550-8D2D-D827C0D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358-0BF7-4753-9506-3B6206B2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3EA-4FD2-4675-8066-B00B75A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D1F-70C6-4CC6-B388-74D7959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0B6-14C4-45DD-BBA8-3F801A1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909-285D-4EE9-A99D-E5DF1D5F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freeplaymusic.com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skateboard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25312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533520"/>
            <a:ext cx="74674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Edwardian Script ITC"/>
              </a:rPr>
              <a:t> </a:t>
            </a: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Edwardian Script ITC"/>
              </a:rPr>
              <a:t>Skateboard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914400" y="9907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594360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;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unc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7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006600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Skateboard"/>
          <p:cNvPicPr/>
          <p:nvPr/>
        </p:nvPicPr>
        <p:blipFill>
          <a:blip r:embed="rId1"/>
          <a:stretch/>
        </p:blipFill>
        <p:spPr>
          <a:xfrm>
            <a:off x="2438280" y="1143000"/>
            <a:ext cx="449604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ate Bo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 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katebo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6600cc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Invention: Skate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First two moves on a Skate Board were the 180 and the 36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180 is a half a circle, a 360 is a full s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Skate Boarding became a sport in the 1970s and the 198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e Skate Board is popular in Americ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Sooner they made unbreakable Skate Bo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Again they upgraded the wheels on the Skat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People in America started to get good and then they made skate parks for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Inventor: Alan Ollie Gelf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dwardian Script ITC"/>
              </a:rPr>
              <a:t>Gelfand invented the skate board for America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dwardian Script ITC"/>
              </a:rPr>
              <a:t>Soon he spread them around America and people loved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dwardian Script ITC"/>
              </a:rPr>
              <a:t>Skate boards stop buying in the stores in the 1980s.</a:t>
            </a: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6Z</dcterms:created>
  <dc:creator>install</dc:creator>
  <dc:description/>
  <dc:language>en-US</dc:language>
  <cp:lastModifiedBy>install</cp:lastModifiedBy>
  <dcterms:modified xsi:type="dcterms:W3CDTF">2010-05-12T17:35:15Z</dcterms:modified>
  <cp:revision>9</cp:revision>
  <dc:subject/>
  <dc:title>Slide 1</dc:title>
</cp:coreProperties>
</file>